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DD4B-980F-40AA-BAFE-6FF0E4462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D38A-E1FC-4D19-8FFC-112135F5C0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15B1-99F6-46C7-81C5-19F59DCF56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CA3A-42DF-4A98-B8EC-83E0A7EE09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6203-C913-420D-A75C-FF9CF4EEEE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CF5A-1007-41C3-8DB8-22C86A27CE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E603-9431-480D-9836-6B6B56C269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1AF4-2057-42E8-9238-6E1E88EB84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987E-79B3-4F20-A897-358DDEC919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place for Water: some in N Polar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3D14-A620-49D0-B4EB-C8502FA4BC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2F55-CEEC-4D64-85CA-15CBEED093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67AA-AF60-41BA-B0EE-B1D84E1160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11EC-1878-4BAF-8027-94548610BF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70DB-C8C7-4600-857D-89FC0D48EA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9CC3-8DE0-4078-9088-FC797DEB29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4B65-8ECA-4342-B5DD-746E5DFEA7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ed Sedimentary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C2FD-A21E-4966-94AC-39CC39DF28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C1EC-BD18-4F2A-BF88-6392F23DFF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E55A-28A5-431F-848E-581A12181E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B0A2-F668-4966-BC6D-5728A5618C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51EA-452F-4C22-ABAA-FFA10FF16B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5C33-99D3-40AD-953D-2D7B68E8F2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4C32-C783-4671-8C30-8C5A1271AD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F4CD-5F9A-4340-B057-3D02034F40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Outflow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A9D9-7F67-4275-BB2B-891B480AD3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Martia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887B-9301-483D-B459-BFBD88C3CA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Sustained Water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6897-B2A1-42FB-B439-31ADECA695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1C1E-EB4F-4154-BE0F-1431487495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ological Eviden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ncient Streambeds and Erosio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B225-D3DE-47B5-A86A-F2B9D4EE17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3F2C-919E-4E25-AF17-0C0861D319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B1E-C454-4A9B-BA2E-1AF7466A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99A-64CA-4B3D-B398-6CDDAD83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655-CE4D-4123-959A-1F32A317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98A-7A58-4B86-B792-629B1316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2D2-BD06-451B-9BBB-6233E3EF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8408-058C-4130-B4C6-9C3F7542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444-A98D-4446-8AFD-9D3D72D9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7069-348E-4CD4-B98F-6BF60F4A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DDA-CEC8-4578-86C2-2652D968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FF4-6739-4AD0-9F29-0A350641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A6F-E5EA-4C56-950E-DAE0758B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2BA-3E72-40C6-829D-12AD4C30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06B7-78F9-404C-9C62-9FF02BEEDD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48E9-669D-4FB7-B0EC-30945E566B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2974320" y="228600"/>
            <a:ext cx="29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Water on M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960" y="990720"/>
            <a:ext cx="64425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 for Water on Mars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gullies, erosion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layers/sedimentary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Physics of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ar ice caps – seasonal var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mosphere -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 for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 –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ba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Martian Meteor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1668-4659-47C9-BAB7-CC2E8A0389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day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B499-D2DC-40E3-9195-0C871BB33C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ight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13B1-AEB3-4CE8-BC08-2E8C452504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95920" y="240480"/>
            <a:ext cx="373608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rtian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bon Dioxide (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95.32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trogen (N2): 2.7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on (Ar): 1.6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xygen (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0.1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 (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): 0.0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on (Ne): 0.00025 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/1,000 as much water as our 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enough to cover the surf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the planet with 0.4 inches i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ted out of the atmospher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tian atmosphere does n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ulate the surface temperat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the planet as Earth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marsatmo"/>
          <p:cNvPicPr/>
          <p:nvPr/>
        </p:nvPicPr>
        <p:blipFill>
          <a:blip r:embed="rId1"/>
          <a:stretch/>
        </p:blipFill>
        <p:spPr>
          <a:xfrm>
            <a:off x="4419720" y="762120"/>
            <a:ext cx="4410000" cy="495288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>
            <a:off x="3886200" y="685800"/>
            <a:ext cx="2362320" cy="9144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9B87-F5D7-4F98-8114-568E77516A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mars_atmos_temp"/>
          <p:cNvPicPr/>
          <p:nvPr/>
        </p:nvPicPr>
        <p:blipFill>
          <a:blip r:embed="rId1"/>
          <a:stretch/>
        </p:blipFill>
        <p:spPr>
          <a:xfrm>
            <a:off x="457200" y="442800"/>
            <a:ext cx="8229600" cy="5972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529200" y="571500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3043-00C3-4497-AA8D-6C62F55147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77160" y="0"/>
            <a:ext cx="77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istory of Mars’ atmosphere: first like Earth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18280" y="4495680"/>
            <a:ext cx="741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es of terrestrial planets created by out-gassing of volcano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~4 Billion years ago (Mars/Earth = same atmosphe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volcanic gasses: nitrogen, CO2, water vap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054800" y="5638680"/>
            <a:ext cx="679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O in atmospheres condensed to create oceans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cycles through our atmosphere: volcanoes/carbonate r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figure 12-16"/>
          <p:cNvPicPr/>
          <p:nvPr/>
        </p:nvPicPr>
        <p:blipFill>
          <a:blip r:embed="rId1"/>
          <a:stretch/>
        </p:blipFill>
        <p:spPr>
          <a:xfrm>
            <a:off x="1981080" y="609480"/>
            <a:ext cx="5257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606F-31A3-4934-8FD9-6136CF7066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142640" y="15228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at happened to the atmosphere on Ma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49280" y="4038480"/>
            <a:ext cx="8324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may have condensed out and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t so cold, that the water froze into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ermafr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of volcanic activity, however, would stop the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UV light from the Sun will break up chemicals on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ause them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figure 12-16"/>
          <p:cNvPicPr/>
          <p:nvPr/>
        </p:nvPicPr>
        <p:blipFill>
          <a:blip r:embed="rId1"/>
          <a:stretch/>
        </p:blipFill>
        <p:spPr>
          <a:xfrm>
            <a:off x="2057400" y="762120"/>
            <a:ext cx="4622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омера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D764-25C5-4440-B632-00D04D7A79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torage place for Water: some in N Polar Cap!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hubble_mars"/>
          <p:cNvPicPr/>
          <p:nvPr/>
        </p:nvPicPr>
        <p:blipFill>
          <a:blip r:embed="rId1"/>
          <a:stretch/>
        </p:blipFill>
        <p:spPr>
          <a:xfrm>
            <a:off x="1066680" y="914400"/>
            <a:ext cx="2382840" cy="2666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4267080" y="1066680"/>
            <a:ext cx="487692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s are frozen carbon dioxide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‘dry ice’) and some froze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s on frozen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reezes at T~150 K (~ -200 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block of ‘dry ice’ T~ -110 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ublimes directly ice to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thern residual cap is ~300 km across, T ~150 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ern cap is ~1,000 km, T~200K  (implies mostly water ice b/c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ce would be sublima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mars_seasons"/>
          <p:cNvPicPr/>
          <p:nvPr/>
        </p:nvPicPr>
        <p:blipFill>
          <a:blip r:embed="rId2"/>
          <a:stretch/>
        </p:blipFill>
        <p:spPr>
          <a:xfrm>
            <a:off x="152280" y="361944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08D2-C23A-451F-B3AE-B6A9A5A449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33520" y="1522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Looking for presence of minerals which sugges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99400" y="121932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mounts of water vapor in the atmosphere ind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much of the planet’s water lost to space –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02640" y="2133720"/>
            <a:ext cx="79772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looked for evidence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rbon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seafloor beds resulting from consumption of atmospheric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ding little or none – this is problematic, controvers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54680" y="3581280"/>
            <a:ext cx="45770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f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mati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a signature of dried-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kes on a few places on the pla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from TES instrument on M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" descr="hematiteMap2"/>
          <p:cNvPicPr/>
          <p:nvPr/>
        </p:nvPicPr>
        <p:blipFill>
          <a:blip r:embed="rId1"/>
          <a:stretch/>
        </p:blipFill>
        <p:spPr>
          <a:xfrm>
            <a:off x="5181480" y="3352680"/>
            <a:ext cx="3292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B58C-6590-43F5-93D1-9DB258EFCD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219320" y="380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water_caps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4B67-6E36-47E4-A051-FF099B2DEA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91440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water_surface"/>
          <p:cNvPicPr/>
          <p:nvPr/>
        </p:nvPicPr>
        <p:blipFill>
          <a:blip r:embed="rId1"/>
          <a:stretch/>
        </p:blipFill>
        <p:spPr>
          <a:xfrm>
            <a:off x="533520" y="1168560"/>
            <a:ext cx="822960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33A5-3F2A-4C55-8B05-F679DBF48C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746440" y="228600"/>
            <a:ext cx="32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 on M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viking_channels"/>
          <p:cNvPicPr/>
          <p:nvPr/>
        </p:nvPicPr>
        <p:blipFill>
          <a:blip r:embed="rId1"/>
          <a:stretch/>
        </p:blipFill>
        <p:spPr>
          <a:xfrm>
            <a:off x="228600" y="1676520"/>
            <a:ext cx="4267080" cy="35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gullies"/>
          <p:cNvPicPr/>
          <p:nvPr/>
        </p:nvPicPr>
        <p:blipFill>
          <a:blip r:embed="rId2"/>
          <a:stretch/>
        </p:blipFill>
        <p:spPr>
          <a:xfrm>
            <a:off x="4648320" y="19051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41080" y="5562720"/>
            <a:ext cx="800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hough many images suggest SIGNS of wat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 LIQUID WATER or RAIN has ever been observ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216080" y="480060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2d"/>
                </a:solidFill>
                <a:latin typeface="Times New Roman"/>
              </a:rPr>
              <a:t>Viking 1 Orb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803120" y="46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04280" y="99072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One of the most natural human curiosities – related to the ultimate question of LIFE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8849-D174-445D-BE7E-91A45E1CB3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522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heories for Water on Mars: WET, WARM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9856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3429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OLD, DESERT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53720" y="914400"/>
            <a:ext cx="6761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arly atmosphere was d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support water in liquid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“rain” out the CO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99360" y="2133720"/>
            <a:ext cx="90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arge beds of carbonate form in standing water like on Earth (Ocea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ater would be plentiful on Mars, could generate the observed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95560" y="4038480"/>
            <a:ext cx="855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Never right conditions for water to condense and to create ero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ve to rely on other eroding ag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i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du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liquid carbon dioxi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DA5A-931B-4755-8895-2DDE90AA04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5800" y="457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71520" y="1295280"/>
            <a:ext cx="83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s probably did have 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“warmer, wetter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st, but not extr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tudies show water can exist in ice-covered l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s long as temperatures get above freezing for a few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lues from glacial regions on Earth have hel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04920" y="388620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Use Ancient Lakebeds/Glacial 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s ana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beacon_valley"/>
          <p:cNvPicPr/>
          <p:nvPr/>
        </p:nvPicPr>
        <p:blipFill>
          <a:blip r:embed="rId1"/>
          <a:stretch/>
        </p:blipFill>
        <p:spPr>
          <a:xfrm>
            <a:off x="4419720" y="3276720"/>
            <a:ext cx="4457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42D4-D215-4839-8405-503316E125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logical Evidence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yered Sedimentary Featur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holden_cntx1_i1"/>
          <p:cNvPicPr/>
          <p:nvPr/>
        </p:nvPicPr>
        <p:blipFill>
          <a:blip r:embed="rId1"/>
          <a:stretch/>
        </p:blipFill>
        <p:spPr>
          <a:xfrm>
            <a:off x="228600" y="2057400"/>
            <a:ext cx="3809880" cy="292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0" name="Rectangle 5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M03-02733sub1_i1"/>
          <p:cNvPicPr/>
          <p:nvPr/>
        </p:nvPicPr>
        <p:blipFill>
          <a:blip r:embed="rId2"/>
          <a:stretch/>
        </p:blipFill>
        <p:spPr>
          <a:xfrm>
            <a:off x="4419720" y="1828800"/>
            <a:ext cx="4246560" cy="464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2" name="Line 7"/>
          <p:cNvSpPr/>
          <p:nvPr/>
        </p:nvSpPr>
        <p:spPr>
          <a:xfrm>
            <a:off x="1676520" y="40384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1295280" y="51814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95280" y="53341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41 km (88 mil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066680" y="5867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den Cr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1" descr="mars-candor-chasma-lrg"/>
          <p:cNvPicPr/>
          <p:nvPr/>
        </p:nvPicPr>
        <p:blipFill>
          <a:blip r:embed="rId3"/>
          <a:stretch/>
        </p:blipFill>
        <p:spPr>
          <a:xfrm>
            <a:off x="2057400" y="304920"/>
            <a:ext cx="4889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6DC9-1C03-417D-8E26-CDB64665E2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71160" y="3200400"/>
            <a:ext cx="750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lso can invoke an active underground system of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ater lower down may be able to be liqu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warmer near Mars’ c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volcanic soils (megaregolith) are incredibly por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80880" y="990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can invok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warm, wet cl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volcanic activity generates atmosphere for short peri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starts flowing again (unfreeze 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reate the observed layers of water erosion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freezes into permafrost under Mar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50800" y="5105520"/>
            <a:ext cx="65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The final word… keep watching the skies (NA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Monday: review of current/future Mars Expl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New results in every day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049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EE9A-B97B-4A5D-8F05-C40DA256EA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4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5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2594-D3A2-471B-9432-19A9B3F503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3592440" y="457200"/>
            <a:ext cx="554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027320" y="2475000"/>
            <a:ext cx="44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 of ori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to RETURN ROCKS from Mars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C9DD-F5ED-47DA-ACE7-180C1163ED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7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44" name="Picture 8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45" name="Text Box 9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1143000" y="990720"/>
            <a:ext cx="6781680" cy="4570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2"/>
          <p:cNvSpPr/>
          <p:nvPr/>
        </p:nvSpPr>
        <p:spPr>
          <a:xfrm>
            <a:off x="760680" y="38268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83808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72FC-3CA3-4C87-9FEC-AA2A71756A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990720" y="205740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CC66-9609-403F-A3EE-82687AA217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EF33-BE73-425F-AA83-56E05A9E45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8916-491A-4E53-9A9D-E76A8A854D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Outflow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899280" y="5538960"/>
            <a:ext cx="736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flow channels suggest that massive floods happene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water discharge rates ~10,000 times Mississippi River fl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did these floods form into a massive oc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noachis_gullies"/>
          <p:cNvPicPr/>
          <p:nvPr/>
        </p:nvPicPr>
        <p:blipFill>
          <a:blip r:embed="rId1"/>
          <a:stretch/>
        </p:blipFill>
        <p:spPr>
          <a:xfrm>
            <a:off x="5181480" y="838080"/>
            <a:ext cx="3100680" cy="464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figure 12-09"/>
          <p:cNvPicPr/>
          <p:nvPr/>
        </p:nvPicPr>
        <p:blipFill>
          <a:blip r:embed="rId2"/>
          <a:stretch/>
        </p:blipFill>
        <p:spPr>
          <a:xfrm>
            <a:off x="1066680" y="990720"/>
            <a:ext cx="3295800" cy="4394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2347200" y="4915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s Val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310080" y="49150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GS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3C92-BF34-4093-866C-E31BDD0562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Martian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7" name="Picture 3" descr="gullylables_70"/>
          <p:cNvPicPr/>
          <p:nvPr/>
        </p:nvPicPr>
        <p:blipFill>
          <a:blip r:embed="rId1"/>
          <a:stretch/>
        </p:blipFill>
        <p:spPr>
          <a:xfrm>
            <a:off x="3048120" y="1447920"/>
            <a:ext cx="5851440" cy="4389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8" name="Text Box 4"/>
          <p:cNvSpPr/>
          <p:nvPr/>
        </p:nvSpPr>
        <p:spPr>
          <a:xfrm>
            <a:off x="304920" y="1676520"/>
            <a:ext cx="274320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tian Gullies: left (Mars) and right (Earth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 the Earth picture, rain water flowing under and seeping along the base of a recently-deposited volcanic ash layer has created the gull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For Mars, water is not actually </a:t>
            </a:r>
            <a:r>
              <a:rPr b="1" i="1" lang="en-US" sz="1600" spc="-1" strike="noStrike">
                <a:solidFill>
                  <a:srgbClr val="ffff99"/>
                </a:solidFill>
                <a:latin typeface="Times New Roman"/>
              </a:rPr>
              <a:t>seen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but is inferred from the landforms and their similarity to examples on Ear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133720" y="60958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s Global Surveyor Image (June 2000)           Earth (Mt. St. Helen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37DD-634C-4DD1-B8EF-58969D6203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figure 12-10a"/>
          <p:cNvPicPr/>
          <p:nvPr/>
        </p:nvPicPr>
        <p:blipFill>
          <a:blip r:embed="rId1"/>
          <a:stretch/>
        </p:blipFill>
        <p:spPr>
          <a:xfrm>
            <a:off x="380880" y="1371600"/>
            <a:ext cx="4808520" cy="4851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figure 12-10b"/>
          <p:cNvPicPr/>
          <p:nvPr/>
        </p:nvPicPr>
        <p:blipFill>
          <a:blip r:embed="rId2"/>
          <a:stretch/>
        </p:blipFill>
        <p:spPr>
          <a:xfrm>
            <a:off x="5410080" y="1066680"/>
            <a:ext cx="299412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Sustained Water Flow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1F11-2748-40DE-AB2D-F2846909A6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5" descr="gullies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73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7241760" y="60958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A4C3-87E2-4DA9-BE22-B09E7E69D3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Ancient Streambeds and Erosion Channel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-6714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see caption"/>
          <p:cNvPicPr/>
          <p:nvPr/>
        </p:nvPicPr>
        <p:blipFill>
          <a:blip r:embed="rId1"/>
          <a:stretch/>
        </p:blipFill>
        <p:spPr>
          <a:xfrm>
            <a:off x="533520" y="1143000"/>
            <a:ext cx="8194680" cy="2676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9" name="Rectangle 7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sp_pit_i1"/>
          <p:cNvPicPr/>
          <p:nvPr/>
        </p:nvPicPr>
        <p:blipFill>
          <a:blip r:embed="rId2"/>
          <a:stretch/>
        </p:blipFill>
        <p:spPr>
          <a:xfrm>
            <a:off x="990720" y="4038480"/>
            <a:ext cx="3504960" cy="2630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1" name="Rectangle 9"/>
          <p:cNvSpPr/>
          <p:nvPr/>
        </p:nvSpPr>
        <p:spPr>
          <a:xfrm>
            <a:off x="939960" y="20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marsnewton_mgs_med"/>
          <p:cNvPicPr/>
          <p:nvPr/>
        </p:nvPicPr>
        <p:blipFill>
          <a:blip r:embed="rId3"/>
          <a:stretch/>
        </p:blipFill>
        <p:spPr>
          <a:xfrm>
            <a:off x="4876920" y="4038480"/>
            <a:ext cx="314316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30AC-0792-4D76-9F37-59E2DB622C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85800" y="227880"/>
            <a:ext cx="8229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ummers in the Martian southern hemisphere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horter than summers in the northern hemisp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5800" y="20574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orthern hemisphere is chilled by a larger polar 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more volcanoes i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The southern hemisphere is at much lower elevation on average the Martian equatorial bulge makes the sun shine more directly o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This is a consequence of Mars’ elliptical orb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01B6-1885-40A3-BB08-CB3D65628A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1040" y="533520"/>
            <a:ext cx="63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physics of finding water on M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34360" y="1828800"/>
            <a:ext cx="757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hen/how does water (H</a:t>
            </a:r>
            <a:r>
              <a:rPr b="0" i="1" lang="en-US" sz="28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0) exist in its liquid st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fig-7a-water"/>
          <p:cNvPicPr/>
          <p:nvPr/>
        </p:nvPicPr>
        <p:blipFill>
          <a:blip r:embed="rId1"/>
          <a:stretch/>
        </p:blipFill>
        <p:spPr>
          <a:xfrm>
            <a:off x="6781680" y="38088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09480" y="25146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QUID water exists over a very NARROW range i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high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low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olid (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80880" y="38098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TEMPERATURE of water will depend on the ATMOSPHERIC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low – water will vaporize (evapor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high – water will stay liqui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57200" y="4876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760" y="5105520"/>
            <a:ext cx="82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ars’ atmospheric pressure is ~1% of Earth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temperature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FROZEN WATER (ice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5:11:34Z</dcterms:created>
  <dc:creator>Cornelia C Lang</dc:creator>
  <dc:description/>
  <dc:language>en-US</dc:language>
  <cp:lastModifiedBy>RomaK</cp:lastModifiedBy>
  <dcterms:modified xsi:type="dcterms:W3CDTF">2015-08-01T07:31:24Z</dcterms:modified>
  <cp:revision>17</cp:revision>
  <dc:subject/>
  <dc:title>Slide 1</dc:title>
</cp:coreProperties>
</file>